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9DE-804E-461F-B0AE-A671FDEA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B1B-5662-424A-8BFD-D441BC91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69C-57FB-4038-8455-AB08C81E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F1C-F08C-4FA4-BB2E-93407756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099-044C-4EDF-8E90-9659AFF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BAD-26B7-4930-8174-2431A108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24F-EB58-4EE7-B2FD-29642E48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28F-0D08-4213-A252-4430C5AD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E5D-D58D-4F23-8A1D-D54D9CAB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9C5-AC10-4F66-9899-F889AFCC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439-F7EF-4D02-A96B-36B50B69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4D4-8FB7-4EF4-9068-A60945F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5281-1720-47D5-8342-92D334B1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42753" b="0"/>
          <a:stretch/>
        </p:blipFill>
        <p:spPr>
          <a:xfrm>
            <a:off x="4114800" y="457200"/>
            <a:ext cx="4529160" cy="59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809880" y="2971800"/>
            <a:ext cx="1335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657600" y="6248520"/>
            <a:ext cx="133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57600" y="5486400"/>
            <a:ext cx="13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2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33920" y="1447920"/>
            <a:ext cx="133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3</a:t>
            </a:r>
            <a:endParaRPr b="0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600200"/>
            <a:ext cx="121896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124080"/>
            <a:ext cx="2743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5562720"/>
            <a:ext cx="53352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86200" y="6248160"/>
            <a:ext cx="30492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8080" y="138096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750320"/>
            <a:ext cx="3348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(green button  lower left hand cor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5158" t="21878" r="35937" b="22917"/>
          <a:stretch/>
        </p:blipFill>
        <p:spPr>
          <a:xfrm>
            <a:off x="2133720" y="304920"/>
            <a:ext cx="441468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29000" y="2819520"/>
            <a:ext cx="1295280" cy="380880"/>
          </a:xfrm>
          <a:prstGeom prst="wedgeRectCallout">
            <a:avLst>
              <a:gd name="adj1" fmla="val -77328"/>
              <a:gd name="adj2" fmla="val -3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4920" y="3886200"/>
            <a:ext cx="1752480" cy="380880"/>
          </a:xfrm>
          <a:prstGeom prst="wedgeRectCallout">
            <a:avLst>
              <a:gd name="adj1" fmla="val -72555"/>
              <a:gd name="adj2" fmla="val -15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819520"/>
            <a:ext cx="1295280" cy="685800"/>
          </a:xfrm>
          <a:prstGeom prst="wedgeRectCallout">
            <a:avLst>
              <a:gd name="adj1" fmla="val 93870"/>
              <a:gd name="adj2" fmla="val 55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981080"/>
            <a:ext cx="1295280" cy="609840"/>
          </a:xfrm>
          <a:prstGeom prst="wedgeRectCallout">
            <a:avLst>
              <a:gd name="adj1" fmla="val 99143"/>
              <a:gd name="adj2" fmla="val 28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 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429000"/>
            <a:ext cx="1295280" cy="380880"/>
          </a:xfrm>
          <a:prstGeom prst="wedgeRectCallout">
            <a:avLst>
              <a:gd name="adj1" fmla="val 19851"/>
              <a:gd name="adj2" fmla="val -47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523880"/>
            <a:ext cx="1752840" cy="609840"/>
          </a:xfrm>
          <a:prstGeom prst="wedgeRectCallout">
            <a:avLst>
              <a:gd name="adj1" fmla="val -102717"/>
              <a:gd name="adj2" fmla="val -85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724280"/>
            <a:ext cx="1295640" cy="381240"/>
          </a:xfrm>
          <a:prstGeom prst="wedgeRectCallout">
            <a:avLst>
              <a:gd name="adj1" fmla="val -75856"/>
              <a:gd name="adj2" fmla="val 136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2209680"/>
            <a:ext cx="1295640" cy="381240"/>
          </a:xfrm>
          <a:prstGeom prst="wedgeRectCallout">
            <a:avLst>
              <a:gd name="adj1" fmla="val -86273"/>
              <a:gd name="adj2" fmla="val 4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h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37952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41720"/>
            <a:ext cx="2438280" cy="58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drawing program has drawing tools in a toolbox.  You use your mouse to control the tools. The white space, or canvas is the blank area where you create your graph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ush Tool and Color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near the top of the canvas, holding down the left mouse button and drag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ush too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own to draw a line.  Release the left mouse button to stop draw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he colo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roj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from the color box and your brush will b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00:39Z</dcterms:created>
  <dc:creator>sdawson</dc:creator>
  <dc:description/>
  <dc:language>en-US</dc:language>
  <cp:lastModifiedBy>sdawson</cp:lastModifiedBy>
  <dcterms:modified xsi:type="dcterms:W3CDTF">2008-12-19T15:28:03Z</dcterms:modified>
  <cp:revision>3</cp:revision>
  <dc:subject/>
  <dc:title>Using Paint</dc:title>
</cp:coreProperties>
</file>